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driveby.wav" ContentType="audio/x-wav"/>
  <Override PartName="/ppt/media/image14.wmf" ContentType="image/x-wmf"/>
  <Override PartName="/ppt/media/LASER.WAV" ContentType="audio/x-wav"/>
  <Override PartName="/ppt/media/image11.wmf" ContentType="image/x-wmf"/>
  <Override PartName="/ppt/media/explode.wav" ContentType="audio/x-wav"/>
  <Override PartName="/ppt/media/zapbig0g.wav" ContentType="audio/x-wav"/>
  <Override PartName="/ppt/media/image12.wmf" ContentType="image/x-wmf"/>
  <Override PartName="/ppt/media/cashreg.wav" ContentType="audio/x-wav"/>
  <Override PartName="/ppt/media/image3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projctor.wav" ContentType="audio/x-wav"/>
  <Override PartName="/ppt/media/image1.wmf" ContentType="image/x-wmf"/>
  <Override PartName="/ppt/media/image22.gif" ContentType="image/gif"/>
  <Override PartName="/ppt/media/image10.wmf" ContentType="image/x-wmf"/>
  <Override PartName="/ppt/media/WHOOSH.WAV" ContentType="audio/x-wav"/>
  <Override PartName="/ppt/media/fastcar.wav" ContentType="audio/x-wav"/>
  <Override PartName="/ppt/media/image6.wmf" ContentType="image/x-wmf"/>
  <Override PartName="/ppt/media/hzipup01.wav" ContentType="audio/x-wav"/>
  <Override PartName="/ppt/media/laser.wav" ContentType="audio/x-wav"/>
  <Override PartName="/ppt/media/zipup202.wav" ContentType="audio/x-wav"/>
  <Override PartName="/ppt/media/image5.wmf" ContentType="image/x-wmf"/>
  <Override PartName="/ppt/media/image2.wmf" ContentType="image/x-wmf"/>
  <Override PartName="/ppt/media/chimes.wav" ContentType="audio/x-wav"/>
  <Override PartName="/ppt/media/camera.wav" ContentType="audio/x-wav"/>
  <Override PartName="/ppt/media/image23.wmf" ContentType="image/x-wmf"/>
  <Override PartName="/ppt/media/whoosh.wav" ContentType="audio/x-wav"/>
  <Override PartName="/ppt/media/image13.wmf" ContentType="image/x-wmf"/>
  <Override PartName="/ppt/media/image8.wmf" ContentType="image/x-wmf"/>
  <Override PartName="/ppt/media/bserie06.wav" ContentType="audio/x-wav"/>
  <Override PartName="/ppt/media/image17.wmf" ContentType="image/x-wmf"/>
  <Override PartName="/ppt/media/image7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4F6-F8C6-4208-AA7D-2F4C267B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870-92D3-42AF-B282-B56F318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B15-2C5D-408C-A72E-0418035C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CD9-838B-4382-BFE2-B52F03B1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6B5-F2B9-4D05-8FFA-DEA4423D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545-5BF5-429B-84EB-0F7807C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EE4-9017-4C8D-AC60-DE8C7BF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6FD-1777-459F-85E0-EB393F18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9AE-4CB7-41F8-8641-7FC8F02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D4E-8773-4B45-8475-1B4993A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2EB-3F2E-497E-8CD8-E235AC9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7C5-BA18-438E-BC14-213C860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877C-E97A-4BB7-AF20-CABF2F99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ashreg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ipup202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zipup202.wav"/><Relationship Id="rId26" Type="http://schemas.openxmlformats.org/officeDocument/2006/relationships/audio" Target="../media/bserie06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audio" Target="../media/chimes.wav"/><Relationship Id="rId14" Type="http://schemas.openxmlformats.org/officeDocument/2006/relationships/audio" Target="../media/zapbig0g.wav"/><Relationship Id="rId15" Type="http://schemas.openxmlformats.org/officeDocument/2006/relationships/audio" Target="../media/zipup202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up202.wav"/><Relationship Id="rId22" Type="http://schemas.openxmlformats.org/officeDocument/2006/relationships/audio" Target="../media/bserie06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audio" Target="../media/chimes.wav"/><Relationship Id="rId14" Type="http://schemas.openxmlformats.org/officeDocument/2006/relationships/audio" Target="../media/zapbig0g.wav"/><Relationship Id="rId15" Type="http://schemas.openxmlformats.org/officeDocument/2006/relationships/audio" Target="../media/zipup202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up202.wav"/><Relationship Id="rId22" Type="http://schemas.openxmlformats.org/officeDocument/2006/relationships/audio" Target="../media/bserie06.wav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gif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fastcar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LASER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8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66680" y="3581280"/>
            <a:ext cx="2667240" cy="2295360"/>
            <a:chOff x="1066680" y="3581280"/>
            <a:chExt cx="2667240" cy="2295360"/>
          </a:xfrm>
        </p:grpSpPr>
        <p:sp>
          <p:nvSpPr>
            <p:cNvPr id="48" name=""/>
            <p:cNvSpPr/>
            <p:nvPr/>
          </p:nvSpPr>
          <p:spPr>
            <a:xfrm>
              <a:off x="1066680" y="3581280"/>
              <a:ext cx="266724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buClr>
                  <a:srgbClr val="000000"/>
                </a:buClr>
                <a:buFont typeface="Times New Roman"/>
                <a:buAutoNum type="arabicPlain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buClr>
                  <a:srgbClr val="000000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920" y="3809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4419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441972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5638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59119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 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4 goes to both 3 and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266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in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days. Your average speed was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8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19200" y="2846520"/>
                <a:ext cx="3524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9810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b. Use the model to find the distance traveled after 1.5 days of trav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759120"/>
                <a:ext cx="48006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905120" y="4724280"/>
                <a:ext cx="3657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8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66680" y="3581280"/>
            <a:ext cx="2438280" cy="2295360"/>
            <a:chOff x="1066680" y="3581280"/>
            <a:chExt cx="2438280" cy="2295360"/>
          </a:xfrm>
        </p:grpSpPr>
        <p:sp>
          <p:nvSpPr>
            <p:cNvPr id="61" name=""/>
            <p:cNvSpPr/>
            <p:nvPr/>
          </p:nvSpPr>
          <p:spPr>
            <a:xfrm>
              <a:off x="1066680" y="3581280"/>
              <a:ext cx="243828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      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          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             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38098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4197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02920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71600" y="56386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5911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every input goes to only on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048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: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:   th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70280" y="4038480"/>
                <a:ext cx="40179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095880" y="4038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2, 3,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4952880"/>
                <a:ext cx="386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943600" y="4952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4, 9,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8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66680" y="3581280"/>
            <a:ext cx="2438640" cy="2295360"/>
            <a:chOff x="1066680" y="3581280"/>
            <a:chExt cx="2438640" cy="2295360"/>
          </a:xfrm>
        </p:grpSpPr>
        <p:sp>
          <p:nvSpPr>
            <p:cNvPr id="80" name=""/>
            <p:cNvSpPr/>
            <p:nvPr/>
          </p:nvSpPr>
          <p:spPr>
            <a:xfrm>
              <a:off x="1066680" y="3581280"/>
              <a:ext cx="243864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      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       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3809880"/>
              <a:ext cx="1219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4419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50292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56386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5911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every input goes to only on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029200" y="3048120"/>
            <a:ext cx="3657600" cy="901440"/>
            <a:chOff x="5029200" y="3048120"/>
            <a:chExt cx="3657600" cy="901440"/>
          </a:xfrm>
        </p:grpSpPr>
        <p:sp>
          <p:nvSpPr>
            <p:cNvPr id="87" name=""/>
            <p:cNvSpPr/>
            <p:nvPr/>
          </p:nvSpPr>
          <p:spPr>
            <a:xfrm>
              <a:off x="5029200" y="30481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main: the 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9200" y="3429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ange:   the 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724280" y="4038480"/>
                <a:ext cx="36831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095880" y="4038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2, 3,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72000" y="4952880"/>
                <a:ext cx="3352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943600" y="4952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, 6,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920" y="2743200"/>
                <a:ext cx="3663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2120" y="3505320"/>
                <a:ext cx="332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14800" y="3581280"/>
          <a:ext cx="188136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81280"/>
                    <a:ext cx="18813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019920" y="3581280"/>
          <a:ext cx="111924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581280"/>
                    <a:ext cx="1119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2120" y="4343400"/>
                <a:ext cx="33526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4114800" y="4419720"/>
          <a:ext cx="1611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419720"/>
                    <a:ext cx="1611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816520" y="440064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440064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" y="5181480"/>
                <a:ext cx="4038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419720" y="5257800"/>
          <a:ext cx="21920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257800"/>
                    <a:ext cx="2192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553080" y="5257800"/>
          <a:ext cx="14320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5257800"/>
                    <a:ext cx="14320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8600" y="2666880"/>
                <a:ext cx="4268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9480" y="3505320"/>
                <a:ext cx="3795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419720" y="3581280"/>
          <a:ext cx="188100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81280"/>
                    <a:ext cx="18810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248520" y="3581280"/>
          <a:ext cx="111924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581280"/>
                    <a:ext cx="1119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33520" y="4343400"/>
                <a:ext cx="3849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4419720" y="4419720"/>
          <a:ext cx="1611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1611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5880" y="441972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41972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4920" y="520380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4575240" y="5257800"/>
          <a:ext cx="187956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5240" y="5257800"/>
                    <a:ext cx="1879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477120" y="5257800"/>
          <a:ext cx="8506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5257800"/>
                    <a:ext cx="850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2280" y="2666880"/>
                <a:ext cx="4048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5800" y="3532320"/>
                <a:ext cx="3581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308480" y="3581280"/>
          <a:ext cx="21049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8480" y="3581280"/>
                    <a:ext cx="21049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400800" y="3581280"/>
          <a:ext cx="143208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581280"/>
                    <a:ext cx="14320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5800" y="4343400"/>
                <a:ext cx="37069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4441680" y="4419720"/>
          <a:ext cx="15652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4419720"/>
                    <a:ext cx="1565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5880" y="441972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41972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" y="5181480"/>
                <a:ext cx="4400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4597560" y="5257800"/>
          <a:ext cx="183492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7560" y="5257800"/>
                    <a:ext cx="18349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42120" y="5257800"/>
          <a:ext cx="11206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42120" y="5257800"/>
                    <a:ext cx="1120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2040 miles in 6 days. Your average speed was        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537000" y="3146400"/>
          <a:ext cx="5778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146400"/>
                    <a:ext cx="577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90920" y="5264280"/>
                <a:ext cx="129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8195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8195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 trav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81952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96000" y="3121200"/>
          <a:ext cx="47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3121200"/>
                    <a:ext cx="47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324480" y="3048120"/>
            <a:ext cx="1676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886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tance trav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f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4343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34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iles pe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4876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ays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2520" y="5486400"/>
          <a:ext cx="6285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5486400"/>
                    <a:ext cx="6285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419720" y="5334120"/>
          <a:ext cx="11998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334120"/>
                    <a:ext cx="1199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486400" y="5410080"/>
          <a:ext cx="46512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5410080"/>
                    <a:ext cx="465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05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a. Write a linear function that models the distance that your family traveled each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144792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4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9144000" y="5743440"/>
            <a:ext cx="2057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.00035 -0.00093 L -1.22552 -0.00093 L -1.22552 0.28916 L 0.2092 0.29889 L 0.21215 -0.00672 L 0.00035 -0.00093 Z">
                                      <p:cBhvr>
                                        <p:cTn id="341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2040 miles in 6 days. Your average speed was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4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19200" y="2846520"/>
                <a:ext cx="3219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810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b. Use the model to find the distance traveled after 1.5 days of trav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52480" y="3745080"/>
                <a:ext cx="4876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28800" y="4724280"/>
                <a:ext cx="36576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266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in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days. Your average speed was        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10000" y="5897520"/>
                <a:ext cx="13525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0" y="3048120"/>
            <a:ext cx="9144000" cy="3248640"/>
            <a:chOff x="0" y="3048120"/>
            <a:chExt cx="9144000" cy="3248640"/>
          </a:xfrm>
        </p:grpSpPr>
        <p:graphicFrame>
          <p:nvGraphicFramePr>
            <p:cNvPr id="195" name=""/>
            <p:cNvGraphicFramePr/>
            <p:nvPr/>
          </p:nvGraphicFramePr>
          <p:xfrm>
            <a:off x="3537000" y="3375000"/>
            <a:ext cx="57780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37000" y="3375000"/>
                      <a:ext cx="5778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0" y="304812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3048120"/>
              <a:ext cx="175284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Distance trav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048120"/>
              <a:ext cx="167652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Average sp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5796000" y="3349800"/>
            <a:ext cx="476280" cy="52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6000" y="3349800"/>
                      <a:ext cx="476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6324480" y="3276720"/>
              <a:ext cx="16765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1148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Label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23880" y="411480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Distance trav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1480" y="411480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f 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(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3880" y="45720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Average sp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457200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380 </a:t>
              </a: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miles per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1480" y="51055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t      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days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4038480" y="6134040"/>
          <a:ext cx="62892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6134040"/>
                    <a:ext cx="628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495680" y="5981760"/>
          <a:ext cx="12002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5981760"/>
                    <a:ext cx="1200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62720" y="6058080"/>
          <a:ext cx="465120" cy="62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6058080"/>
                    <a:ext cx="46512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905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a. Write a linear function that models the distance that your family traveled each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144792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8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20:49:50Z</dcterms:created>
  <dc:creator>Teacher</dc:creator>
  <dc:description/>
  <dc:language>en-US</dc:language>
  <cp:lastModifiedBy>damon.skelton</cp:lastModifiedBy>
  <dcterms:modified xsi:type="dcterms:W3CDTF">2004-10-01T20:01:27Z</dcterms:modified>
  <cp:revision>23</cp:revision>
  <dc:subject/>
  <dc:title>PowerPoint Presentation</dc:title>
</cp:coreProperties>
</file>